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BE75-335D-44D2-943D-1740D2B0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B1E-54FB-4CFA-B302-630144BCB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iology, we would say “the evidence supports the hypothesis that…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cognitive disson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tic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(what happens if we reverse…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f different symbol system (ex explain something in both words and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ies (looking for corresponden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ion (filling in incomplete el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alysis (uncovering the complex multiple effects extending from a single sour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C578-9585-438F-9FF2-3452EAD62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DE64-1081-4CFD-8742-FB26B0D8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AB83-8070-4319-9E18-DCB3F86A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167B-27A0-4705-8699-8C50438B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17C-E027-4E10-A1D1-13B6B66E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93B-C12E-4FE9-A953-5959B62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151-40FD-40CB-B796-3F6C8F7D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E98-4C21-4845-B7FD-B57B5D7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07EB-D5B6-485D-A9EB-E78D100F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7FD-C9B7-4447-8C2E-DAC6EF7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866-B2C8-43CC-AC7E-61D83DF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5A0-A7EF-4184-932E-3E1D2D02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5696-8251-4ACB-AE2F-AC00406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FC5-D8EC-4D14-B027-893CC66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5539-1CAF-488A-B1EA-6D10B26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F84-28D8-43A7-B0B3-34FA2850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4CD0-0BC0-483C-B309-0263BE8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93B3-863F-48E3-89CF-EC24680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05C-C647-4814-9A40-4D8E0E91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B91-0CF4-44AD-A159-C203E535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054E-94F9-47FD-A5CD-41DE4CE6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590-B02F-40B6-ABAB-F5ED1157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8E5-2172-4CA1-9D11-1FAFAF9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AF8-947F-40DE-A3EE-ED8B566D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370-51CD-4680-B2D3-5645B4C5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D9B-6F78-486F-AB1A-6D9C627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A99-03DF-4356-A0AF-A481578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F6F-6BC3-4C31-B19A-A92F922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5BF-D182-4A8E-B903-3CB733BF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47C-018C-4C73-9138-5241A8277E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ichelle.withers@mail.wvu.edu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, how do we know what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9604" r="0" b="0"/>
          <a:stretch/>
        </p:blipFill>
        <p:spPr>
          <a:xfrm>
            <a:off x="685800" y="3505320"/>
            <a:ext cx="1940040" cy="2641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187164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1754280" cy="2705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7410" t="11901" r="55564" b="28571"/>
          <a:stretch/>
        </p:blipFill>
        <p:spPr>
          <a:xfrm>
            <a:off x="6095880" y="2362320"/>
            <a:ext cx="207324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914400"/>
            <a:ext cx="883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articula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our students know when they know something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now when they know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au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ask a student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thing, they are simultaneousl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learning and c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u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progress by whether or how well they can per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ndelsman et al., 2006 Scientific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people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495680" y="2103480"/>
            <a:ext cx="0" cy="9144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495680" y="4084560"/>
            <a:ext cx="0" cy="9144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: Talk with your group and come up with an example of modern-day natura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biotic resistance is cau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mutations that are independent of exposure to antibiotics render some bacteria antibiotic resistant, which allows them to survive in the presence of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sitization of the human immune system to antibiotics, due to repeated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individual bacteria caused by repeated exposure to antibiotics that render them insensitive to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81000" y="2344680"/>
            <a:ext cx="8970840" cy="4030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72880" y="6345360"/>
            <a:ext cx="121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oefler Text"/>
              </a:rPr>
              <a:t>(AAAS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9480" y="2438280"/>
            <a:ext cx="1828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1371240" y="4038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676520" y="4038480"/>
            <a:ext cx="533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3400" y="320040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represen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for an en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04920" y="3049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4b4b4b"/>
                </a:solidFill>
                <a:latin typeface="Hoefler Text"/>
              </a:rPr>
              <a:t>Based on your understanding of natural selection and traits that vary along a continuum, explain the changes that occurred in the tree and dinosaur populations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win at the 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activity: Modify the 100m dash so that it becomes an example of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ble to tell the class what sorts of modifications or rules you would have to impose upon this event for it to become an example of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9160" y="5486400"/>
            <a:ext cx="90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s:  Clarissa Dirks, Evergreen Stat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VU Summer Institu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Undergradua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and Math 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-11, 2010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helle.withers@mail.wvu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pplication/information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ed after the National Academy Summer Institute on Undergraduate Biology Educ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 salamanders are blind (they have eyes that are not functional). How would a biologist explain how blind cave salamanders evolved from sighted ancest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2:58:16Z</dcterms:created>
  <dc:creator>Michelle Withers</dc:creator>
  <dc:description/>
  <dc:language>en-US</dc:language>
  <cp:lastModifiedBy>michelle</cp:lastModifiedBy>
  <dcterms:modified xsi:type="dcterms:W3CDTF">2010-03-21T11:26:49Z</dcterms:modified>
  <cp:revision>183</cp:revision>
  <dc:subject/>
  <dc:title>Slide 1</dc:title>
</cp:coreProperties>
</file>